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AEDCE-8294-4566-B487-2E98CD63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134EE-C9EA-413A-B710-8927B9FC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077F1-A37C-4F4D-9CF4-7EBB177A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0F173-0F3C-40A9-9C8C-C6B01850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1C66-0E43-4AF6-B6FD-36E45FFE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D4CF-8FE7-4889-AD40-D414B8B2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C6F2-FEB0-4432-87E1-D6D0ADD9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C398-BDE7-40D5-A63B-E6DB9884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B21F-CBDF-4B95-9FA4-ABA4F1BB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D247-46D0-4632-80C3-1C30AACB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B022-462F-416A-AA75-27362CC9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A5DBB-B093-40B0-B045-6C42BB16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D837-6DF2-4FF4-B70C-464EF9B3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F5AC-3265-4D11-8ECD-B09E2778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CAD7-3DAB-465D-AF00-7DF40E71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66BB-E658-43EC-94CC-BB371FBE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D57F-D6A0-4C36-BB0C-872FF47D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72B0-432A-4052-BFC0-48D7B82E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6BBFF-6EFD-4662-B965-80E00EF1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D0931-856C-450F-B9E7-5927F896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6E897-5A3F-423A-8166-36816798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1C051-0C45-41F8-9076-CB652B88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144EB-D436-42ED-B141-4324F323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09C89-B140-49E0-A414-576CEAB8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9E46-AF56-47DA-A076-329A258D7B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226D-51F2-4BF3-BACD-590617D8DA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바탕"/>
              </a:rPr>
              <a:t>“</a:t>
            </a:r>
            <a:r>
              <a:rPr b="1" lang="en-US" sz="6000" spc="-1" strike="noStrike">
                <a:solidFill>
                  <a:srgbClr val="e5e5ff"/>
                </a:solidFill>
                <a:latin typeface="바탕"/>
              </a:rPr>
              <a:t>Trifles”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48769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Susan Glaspel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71800" y="2048040"/>
            <a:ext cx="3352680" cy="2452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1041480" cy="1625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5800" y="4800600"/>
            <a:ext cx="1174680" cy="1473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rcRect l="0" t="11249" r="0" b="0"/>
          <a:stretch/>
        </p:blipFill>
        <p:spPr>
          <a:xfrm>
            <a:off x="7238880" y="4754520"/>
            <a:ext cx="1511280" cy="1443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7658280" y="457200"/>
            <a:ext cx="78408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769608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4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r. &amp; Mrs. H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orge Clooney and Julianne Mo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orge is a versatile actor and one of my favori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ulianne is an excellent actress, middle aged and not as thin as Mrs. Pet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76520" y="350532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638680" y="35053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eriff &amp; Mrs. P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aron Eckhart and Nicole Kidm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hose Aaron because he is middle aged and reminds me of a sheriff in this pictu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hose Nicole because she is thin and wiry as Mrs. Peters is describe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2181240" cy="2181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791320" y="3886200"/>
            <a:ext cx="2104920" cy="21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unty Attorney, Mr. Hender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in Farr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hose Colin because he is young, has a professional appearance as a lawyer and he played a very good detective in the movie “Minority Report”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2324160" cy="3486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r. &amp; Mrs. Wrigh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hony Hopkins and Kathy B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hose Kathy because she is such a versatile actress and she was awesome in “Misery”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hony is one of my favorite actors.  He is very versatile and talented and I loved his characters in “Meet Joe Black” and “Silence of the Lambs”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10080" y="3276720"/>
            <a:ext cx="2503440" cy="3105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2667240" cy="28195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ng Sel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ung Up” by Madonna – Because Mr. Wright was hung by a rop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ck and Tired” by Everclear – Obviously Mrs. Wright was sick and tired of her life with a hard man that degraded h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icture to Burn” by Taylor Swift – Because of the lyrics, “there’s no time for tears, I’m just sitting here planning my revenge, there’s nothing stopping me.”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lue on Black” by Kenny Wayne Shepherd – Because of a line in the chorus,  “a dead man’s touch” and “wrong can’t be undone”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en a Woman’s Fed Up” by R Kelly – Because she was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 the images that I chose were mentioned in the play.  Mrs. Wright had a singing canary, canned preserves, quilted, and her husband was murdered by a rope.  The picture of the farm house was a realistic image especially because it had a second floor.  Mr. Wright was murdered in the upstairs bedroom.  I think these images would attract movie goe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01:54:41Z</dcterms:created>
  <dc:creator>Lowe family</dc:creator>
  <dc:description/>
  <dc:language>en-US</dc:language>
  <cp:lastModifiedBy>Lowe family</cp:lastModifiedBy>
  <dcterms:modified xsi:type="dcterms:W3CDTF">2008-04-06T19:07:19Z</dcterms:modified>
  <cp:revision>19</cp:revision>
  <dc:subject/>
  <dc:title>“Trifles”</dc:title>
</cp:coreProperties>
</file>